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9080" y="588960"/>
            <a:ext cx="7305840" cy="151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700" spc="-1" strike="noStrike">
                <a:solidFill>
                  <a:srgbClr val="ffcc00"/>
                </a:solidFill>
                <a:latin typeface="Albertus Extra Bold"/>
              </a:rPr>
              <a:t>Duras realidades acerca de las bebidas gaseosa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533520"/>
            <a:ext cx="64771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cc"/>
                </a:solidFill>
                <a:latin typeface="Arial Rounded MT Bold"/>
              </a:rPr>
              <a:t>Estudio en 75.000 mujeres reportó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Arial Rounded MT Bold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Aumentan 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apet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y el ham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Comen más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ganan más p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38520" y="225360"/>
            <a:ext cx="62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¿Por qué trato de dejar los refres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y me cuesta tan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96280" y="1461960"/>
            <a:ext cx="474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Comic Sans MS"/>
              </a:rPr>
              <a:t>CAFEIN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19080" y="604800"/>
            <a:ext cx="7305840" cy="75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700" spc="-1" strike="noStrike">
                <a:solidFill>
                  <a:srgbClr val="ffcc00"/>
                </a:solidFill>
                <a:latin typeface="Albertus Extra Bold"/>
              </a:rPr>
              <a:t>Acido Fosfórico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1635120"/>
            <a:ext cx="4424040" cy="5222880"/>
            <a:chOff x="0" y="1635120"/>
            <a:chExt cx="4424040" cy="522288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0" y="2378160"/>
              <a:ext cx="2821320" cy="44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18400" y="1635120"/>
              <a:ext cx="3005640" cy="6667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ffffff"/>
                  </a:solidFill>
                  <a:latin typeface="Humanst521 XBdCn BT"/>
                </a:rPr>
                <a:t>Fosfóro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681360" y="1644480"/>
            <a:ext cx="5462640" cy="5211720"/>
            <a:chOff x="3681360" y="1644480"/>
            <a:chExt cx="5462640" cy="521172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3681360" y="2252160"/>
              <a:ext cx="5462640" cy="46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6766560" y="1885680"/>
              <a:ext cx="23770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754160" y="1644480"/>
              <a:ext cx="2241000" cy="6667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ffffff"/>
                  </a:solidFill>
                  <a:latin typeface="Humanst521 XBdCn BT"/>
                </a:rPr>
                <a:t>Calcio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726000" y="3063960"/>
            <a:ext cx="5418000" cy="37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9080" y="682560"/>
            <a:ext cx="4629240" cy="689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3d8ab"/>
                </a:solidFill>
                <a:latin typeface="Humanst521 XBdCn BT"/>
              </a:rPr>
              <a:t>Osteoporosi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6880" y="555480"/>
            <a:ext cx="5889600" cy="549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301680" indent="-282600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“</a:t>
            </a: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¿Por qué gastáis el dinero en lo que no es pan, </a:t>
            </a:r>
            <a:br>
              <a:rPr sz="3900"/>
            </a:b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y vuestro jornal en </a:t>
            </a:r>
            <a:br>
              <a:rPr sz="3900"/>
            </a:b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lo que no sacia?”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282600">
              <a:lnSpc>
                <a:spcPct val="100000"/>
              </a:lnSpc>
              <a:tabLst>
                <a:tab algn="l" pos="0"/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“</a:t>
            </a: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A todos los </a:t>
            </a:r>
            <a:br>
              <a:rPr sz="3900"/>
            </a:b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sedientos: venid a </a:t>
            </a:r>
            <a:br>
              <a:rPr sz="3900"/>
            </a:b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las aguas...”</a:t>
            </a:r>
            <a:br>
              <a:rPr sz="3900"/>
            </a:br>
            <a:r>
              <a:rPr b="0" lang="en-GB" sz="3200" spc="-1" strike="noStrike">
                <a:solidFill>
                  <a:srgbClr val="ffffff"/>
                </a:solidFill>
                <a:latin typeface="Humanst521 XBdCn BT"/>
              </a:rPr>
              <a:t>Isaías 55: 2,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34160" y="1638360"/>
            <a:ext cx="8436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Rounded MT Bold"/>
              </a:rPr>
              <a:t>... el que beba del agua que yo le daré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Rounded MT Bold"/>
              </a:rPr>
              <a:t>no tendrá sed jamá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Rounded MT Bold"/>
              </a:rPr>
              <a:t>sino que el agua que yo le dar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Rounded MT Bold"/>
              </a:rPr>
              <a:t>será en él una fuente de agu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Rounded MT Bold"/>
              </a:rPr>
              <a:t>que brota para vida eter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Rounded MT Bold"/>
              </a:rPr>
              <a:t>San Juan 4: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5760" y="530280"/>
            <a:ext cx="89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ara muchas personas no hay nada más refres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que tomar un refresco bien frí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40920" y="5607000"/>
            <a:ext cx="268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cc00"/>
                </a:solidFill>
                <a:latin typeface="Arial Rounded MT Bold"/>
              </a:rPr>
              <a:t>Pero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6440" y="703440"/>
            <a:ext cx="8041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 Rounded MT Bold"/>
              </a:rPr>
              <a:t>Has pensado que al tomar un trago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 Rounded MT Bold"/>
              </a:rPr>
              <a:t>refresco estas tom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Saboriz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3200" spc="-1" strike="noStrike">
                <a:solidFill>
                  <a:srgbClr val="ffcc00"/>
                </a:solidFill>
                <a:latin typeface="Arial Rounded MT Bold"/>
              </a:rPr>
              <a:t>Color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Ácido Fosf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3200" spc="-1" strike="noStrike">
                <a:solidFill>
                  <a:srgbClr val="ffcc00"/>
                </a:solidFill>
                <a:latin typeface="Arial Rounded MT Bold"/>
              </a:rPr>
              <a:t>Edulcor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Conserv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3200" spc="-1" strike="noStrike">
                <a:solidFill>
                  <a:srgbClr val="ffcc00"/>
                </a:solidFill>
                <a:latin typeface="Arial Rounded MT Bold"/>
              </a:rPr>
              <a:t>Cafeí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5360" y="165240"/>
            <a:ext cx="86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 Rounded MT Bold"/>
              </a:rPr>
              <a:t>¿Qué cantidad de Azúcar tiene 1 refresc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5320" y="5970600"/>
            <a:ext cx="467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Rounded MT Bold"/>
              </a:rPr>
              <a:t>Consecuencia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32480" y="1600200"/>
            <a:ext cx="3611520" cy="5257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32480" y="1600200"/>
            <a:ext cx="3611520" cy="5257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19080" y="228600"/>
            <a:ext cx="7305840" cy="1324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cc00"/>
                </a:solidFill>
                <a:latin typeface="Albertus Extra Bold"/>
              </a:rPr>
              <a:t>Azúcar y sistema Inmunológic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51640" y="4492800"/>
            <a:ext cx="142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5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60720" y="6245280"/>
            <a:ext cx="49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Comic Sans MS"/>
              </a:rPr>
              <a:t>¿Cuántas veces al día to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73520" y="2600280"/>
            <a:ext cx="3402000" cy="1747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Wingdings 3"/>
                <a:ea typeface="Wingdings 3"/>
              </a:rPr>
              <a:t></a:t>
            </a: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 </a:t>
            </a: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Vitaminas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buClr>
                <a:srgbClr val="ffffff"/>
              </a:buClr>
              <a:buFont typeface="Wingdings 3" charset="2"/>
              <a:buChar char="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Mineral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    </a:t>
            </a: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Caloria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5000" y="5770440"/>
            <a:ext cx="87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Rounded MT Bold"/>
              </a:rPr>
              <a:t>Nos roba nutrientes de otros aliment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733920"/>
            <a:ext cx="486000" cy="609480"/>
          </a:xfrm>
          <a:prstGeom prst="upArrow">
            <a:avLst>
              <a:gd name="adj1" fmla="val 50000"/>
              <a:gd name="adj2" fmla="val 3135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02280" y="306360"/>
            <a:ext cx="4041720" cy="2882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Humanst521 XBdCn BT"/>
              </a:rPr>
              <a:t>1</a:t>
            </a: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 de cada </a:t>
            </a:r>
            <a:r>
              <a:rPr b="0" lang="en-GB" sz="8800" spc="-1" strike="noStrike">
                <a:solidFill>
                  <a:srgbClr val="ffffff"/>
                </a:solidFill>
                <a:latin typeface="Humanst521 XBdCn BT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 </a:t>
            </a: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niños consume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bebidas gaseosas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00440" y="4098960"/>
            <a:ext cx="4352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cc33"/>
                </a:solidFill>
                <a:latin typeface="Arial Rounded MT Bold"/>
              </a:rPr>
              <a:t>1 vaso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cc33"/>
                </a:solidFill>
                <a:latin typeface="Arial Rounded MT Bold"/>
              </a:rPr>
              <a:t>que para s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cc33"/>
                </a:solidFill>
                <a:latin typeface="Arial Rounded MT Bold"/>
              </a:rPr>
              <a:t>peso y talla 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cc33"/>
                </a:solidFill>
                <a:latin typeface="Arial Rounded MT Bold"/>
              </a:rPr>
              <a:t>demasi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13560" y="5934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19080" y="571680"/>
            <a:ext cx="6229440" cy="689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c00"/>
                </a:solidFill>
                <a:latin typeface="Humanst521 XBdCn BT"/>
              </a:rPr>
              <a:t>¿Para ganar un kilo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395360"/>
            <a:ext cx="3886200" cy="546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2000" y="4849920"/>
            <a:ext cx="3205080" cy="1261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ffcc00"/>
                </a:solidFill>
                <a:latin typeface="Humanst521 XBdCn BT"/>
              </a:rPr>
              <a:t>14 kg. extra por año</a:t>
            </a: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0560" y="3930480"/>
            <a:ext cx="2993760" cy="66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26 día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94400" y="76320"/>
            <a:ext cx="35838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Humanst521 XBdCn BT"/>
              </a:rPr>
              <a:t>¿Funcionan </a:t>
            </a:r>
            <a:br>
              <a:rPr sz="4500"/>
            </a:br>
            <a:r>
              <a:rPr b="1" lang="en-GB" sz="4500" spc="-1" strike="noStrike">
                <a:solidFill>
                  <a:srgbClr val="000000"/>
                </a:solidFill>
                <a:latin typeface="Humanst521 XBdCn BT"/>
              </a:rPr>
              <a:t>en realidad </a:t>
            </a:r>
            <a:br>
              <a:rPr sz="4500"/>
            </a:br>
            <a:r>
              <a:rPr b="1" lang="en-GB" sz="4500" spc="-1" strike="noStrike">
                <a:solidFill>
                  <a:srgbClr val="000000"/>
                </a:solidFill>
                <a:latin typeface="Humanst521 XBdCn BT"/>
              </a:rPr>
              <a:t>las bebidas </a:t>
            </a:r>
            <a:br>
              <a:rPr sz="4500"/>
            </a:br>
            <a:r>
              <a:rPr b="1" lang="en-GB" sz="4500" spc="-1" strike="noStrike">
                <a:solidFill>
                  <a:srgbClr val="000000"/>
                </a:solidFill>
                <a:latin typeface="Humanst521 XBdCn BT"/>
              </a:rPr>
              <a:t>dietéticas?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-152280"/>
            <a:ext cx="1384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9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taola</cp:lastModifiedBy>
  <dcterms:modified xsi:type="dcterms:W3CDTF">2011-09-30T22:57:19Z</dcterms:modified>
  <cp:revision>22</cp:revision>
  <dc:subject/>
  <dc:title>PowerPoint Presentation</dc:title>
</cp:coreProperties>
</file>